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F01E94-7010-4BAF-B07C-749AAFFD601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DE4B02-A025-4C0F-A181-FC2231B669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3A9C65-846E-456F-A524-559FBA4D0A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3C88F2-77CA-4628-BE15-C606B6789FC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789C4F0-D72F-489D-9384-E2853A32155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00ABEAB-1A93-4A00-97F5-90B747B6DBF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24D823-941D-402E-A803-57F2FDD8E77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384DB6-3076-46DE-8406-D2EB2228A15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E1240C-2C45-419F-A892-52B836A7727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D8509C6-0AB2-4CB4-8C9A-70265B1C8D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EF7D6A6-755E-49AC-9A62-2551F9FA60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C2DD9A-7277-418F-AC06-96828D716F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A4DCE66-4F8A-49F1-BB06-1C50E58849F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5A27C7-B149-4BBC-917B-03FA3331CB5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3A91A6-0B6F-49E0-BCC8-FB005A17B9E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C7B97D-F0B5-4ECD-8C7C-0FDE56AFCAD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91BCE15-7E90-4986-93A8-79E7908AED2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6576B05-FFB3-4D8D-A264-C5FE33EBE0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FDFF18E-1B71-49F5-BF19-B6476F9499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7C8DFF5-2AC9-475E-9BB8-31919D9BE3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712443-65FE-424B-8C6F-75425CC8B4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4CDE6E-5527-4C25-AF11-868A7BF34C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389098-DAE8-4417-AEF5-46CFE2878E3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55F7B13-E7D0-4A55-A560-9636798B91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1D2055-7333-4B67-AF3A-11340B2F6B4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699207-E391-4C3A-8807-BF22A364446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33ADA4C-DF15-4902-9F0A-4E846AAD7EB2}"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CD456E6-4E2E-4783-9F27-72AA1D81D46C}"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6290EF-14C6-4D7E-A4F0-4168B0EBC66A}"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5F427F-5D1C-4C1D-8139-FB682C7A331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3AA435-95E4-467C-9FE4-3DA1749C61BA}"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A99390-7754-444C-AF85-9861F2EAA522}"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45C452-FE53-4468-B54F-BEF194C537F6}"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385FB1-73AB-4F8A-95FF-7308F2FA36C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0F98CB-41C1-4F50-A621-052B312E7541}"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5AC96-FA52-4441-8988-2EC1F39B109C}"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216B1-CFE4-454B-96D9-9D532EA5AA37}"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C6CDBA-A360-4F0F-8E3D-D03ECE66C30E}"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C6756-5C98-4A07-9E18-D2FD1731BCF7}"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37096-609C-4BD7-B8DD-82C557427865}"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4A5536-CFAC-4FEA-A396-F17C486BFB5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459F88-648D-455D-82EA-976DB3016B3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378F61-B8DD-415F-85E5-18BE97F16289}"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747A6-6EB3-495F-887E-9C6685927C07}"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1C6F78-EB7A-4129-876D-06C12490D199}"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C1AC1-B566-484D-86D7-D5F2D3587F4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C7F7DE-3DE4-4781-9B2C-7F7CA5A506C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3986BE-27E4-4EF8-BB7A-4801B4C7E927}"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E807B8-7CBE-48F7-80F7-63D21E1E144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4E5404-CF0F-43EB-BFFC-4A6C4A240E7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D7F3A-D592-4D20-B7F5-D7F86677BD8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543765-BA61-4FB5-B74C-D3CCA544273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A7661-4ADF-446D-9674-1DFC16B280B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61D59A-FA89-45F5-8A2B-AD4696DB202E}"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B13CBF-FC73-487D-9F42-3088525D860A}"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343853-1E1E-42DA-A914-7B3496D4B9EB}"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D120EE-CD2B-4202-8EF8-298F3FF9BDF2}"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994D2-AE05-44EF-AB6F-1E6D0E19D40C}"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B34B1E-E281-4006-B62B-B4769AACEFA3}"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3DD2DF-FBC1-40CD-8999-3BB3AD88280A}"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9AA86E-0E3D-460B-873F-8ED5C152DFA3}"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DF9F12-7F29-4702-9911-717F7C91762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4B01E-FE9B-4F6C-9B0D-811D0D1F36AC}"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3404BB-7EB3-40A4-A50A-17352683384B}"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848719-A261-4A23-94B3-26EBD199AD6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80350-DF83-4367-8569-7B46CD8A293C}"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A45E0B-AFB1-406F-9CEC-1F9FBB52D911}"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7F0856-BF09-479D-AF9F-96A2B7E71FD1}"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98D16-194B-4080-BEEA-67878FA9E9DB}"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17FB95-7C74-4E19-9F48-04886026C7CD}"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2D018B-A4B1-40B2-83E7-56DDFEECF3F0}"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2F4A0C-EB9F-4B4B-8769-47A2CC4D52B1}"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2CF6D6-859C-48B0-89D3-32D2D55E3A6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6F9D3-31DB-40FC-AACA-5CC053E1C16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8E64567-A017-4737-B98C-3BA4B9C15963}"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1B7378-253C-4820-87F4-A1019152A2B4}"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B43AC2-0EC8-4ACA-A0C0-A2844E25C6CE}"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DDF4DD1-8B37-4F13-A254-43730A14DEA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C5C6D4-EC17-48E8-9821-D6BBEF933569}"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FF604D-C869-4C83-A841-6A4F957EE966}"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55F985-5D3C-4937-BF86-31F3E1F33A4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D1969-26E5-457C-BA38-200B06BF6D7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3E2020-4DDC-4115-BC47-DA3F4BB0B696}"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2F5473-A770-44BE-A2E5-E1FC692C930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3D36CA-BD8E-40CE-BA5D-20B33630EFE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EDAF66-469B-4E11-A43C-5BFDDF7D408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3AF9CA-65D8-46C0-AD01-6F38817E2285}"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58ABD-3340-4336-8BD3-DC18BB5A5426}"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90392-6343-49A3-99AB-40549BE7C8FB}"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65210B-0A5D-44E1-BC08-A3A26B344B1D}"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F1B123-3EBE-45B2-A277-07D6F8BC1CC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847B159-1FC5-4979-8298-06FB7A1DFA7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0F6BF-8C0A-44FB-9A4A-8570013237C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C6596-F37E-488B-B462-B87468B1A40F}"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8FB420-6E73-4DDC-9974-47ABE1AED8A6}"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2EFD1-0DC6-44ED-AB3B-37D023128647}"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F5081DE-2F21-4E1B-8DD5-259AB7678C8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D21876-7BE5-4673-B402-AD668C447BD2}"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40CFBF-FAC6-4CB2-AC39-0798F79EF611}"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7636D3-FDAB-49A3-9178-4BF200AAA1E5}"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0E4BCD-4036-4F3A-AA4B-13C4EA17C4D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C8FACF-1E4F-4547-AE61-CCE486BDBBB1}"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BE5BB-6FF6-4316-B461-FB3814D9CEF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F9ECF54-91AE-45F2-A262-A12CEAC21A15}"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CAC325-8BFF-4FC7-B639-F7242B50BF2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277B06-F15E-4FA5-B62B-9285550ED3D8}"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3905D8-526B-4535-B6CD-4DF05E1C4125}"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567331F-0AF2-4EB0-AEC4-FDEAAA35D856}"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09187F-E84B-46EB-B3AC-309FC8A0B5EC}"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349E22B-C5C1-4598-993E-6C6D47BCF83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72770-CA29-40D9-8661-51C6B2AE266B}"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1B888-904C-4E1A-9863-25CEC4C4E9B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259A5-B5C2-4DCC-8DE7-E47AE8A06CA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716BDE-FC93-4045-B536-05EDB6A3CC05}"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06B94-78BE-4A08-83C7-2DFA2986E21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2FA9A0-7529-44F6-9E8F-A74E56EE753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1618E-3E6F-47EB-8A25-23F216AC84D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A5E0C2-9334-4B43-A871-E5AE967D1DB3}"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D028C6-B479-486E-8E6A-402345BA127C}"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22C3E3-FFBF-4068-868D-81A690195478}"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EE52EB-9310-4D4F-AC0D-F18A4243154E}"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85A730-882B-491B-8971-F6F567F5DDC3}"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FC594C-6109-4642-BFAA-0B5703CBCC8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540D60-E2FA-4F7E-B490-0F1CE52F7CCF}"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3177B2-D406-4FA0-9423-C30FC333C312}"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BE3C4FC-0FA5-46B8-932B-8BD8A7890BF7}"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22BCCA-AD48-41F0-A8A8-C1856FC902B8}"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759C4-DBC2-4324-9476-24649AAA6B27}"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FEDE61-028E-4ADE-8571-A9544C52EC0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134CD0-F771-45B6-AAF1-9950D60B96FA}"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AD5CAD-493C-4DFB-910C-ACEC5FA0EC9B}"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EAED6-A8E6-431D-A40B-D6B343E6FA5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140BE1-62E1-4C2C-BF84-E0852F43C7F9}"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2CDD8-057A-4886-96DE-9969F7F78CD5}"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D8D955-C6EA-403D-9670-89A8107EFF2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7F4701-7CA9-415E-ACB1-276AB2752385}"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02841B-6A7F-4C23-81D4-E1837F89148F}"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456998-9455-4E40-BA70-8A2333B6D67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48DB07-5CAE-413A-A356-A0E5E4DA444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2C4E69-19FD-4CC3-BC0B-D4A61C3F24CE}"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2F9052-8983-48A6-8A0E-37B5B300FE9C}"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BDC93E-C8C7-4029-AF4A-50154697E9DE}"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3D54A9-A215-47C3-832E-8D13B5F7B70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866DC-C8D2-404C-A1C4-4B11D81B19B3}"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CA5E26-92C2-4886-81B1-E869851DFFE9}"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D580C8-DDE7-403A-A6A4-EC3E628639A1}"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66080D-0BE5-45C9-A5B2-E7FCEC041E4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1415FD-E6BD-40EF-947E-78DC9A753C4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34A42A-9597-49AD-8C0A-851479E23DBF}"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F487E5-214B-4A21-BAD7-7904AE64CD2E}"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106C62-0850-4789-9682-D4C320ED17E3}"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7F9314-9C2D-49DC-8BF9-3EC43F7FB439}"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9D794-588F-4C46-80DC-3C3E65CEE81D}"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05DC62D-1A62-4F33-9189-CF3821D349E6}"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7D2ADD-6C03-46EE-BFB8-5BB4726FD53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716E5C-2F1D-4BD5-9035-6C1A4FAB763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D0F97A-2CC8-41FF-BEF1-CF0B81CC7D6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ECC74F-5855-49BF-ADAE-51817832EFD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7A5136-4761-4748-A6F7-99E556FB541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8C46E-E656-48B6-A341-95DE7A08E4F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0E26528-2937-4151-8E02-B1CEB09DB21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69DF01-5679-4D13-9AD4-AB146E4B824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0D6737-E180-43F7-BD1A-0EBA81BD42B6}"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9D348C-5CAC-451B-A76F-B9A776624305}"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32F11-0045-4BF9-9AEE-72E47DB3069F}"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04386-1152-4EB0-8B79-B5448DE0FD5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DD28D-599D-4CB4-88CE-80D632302105}"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5ACC9B4-F582-4D56-8635-191954D99858}"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B39B3-1D38-4009-AC61-383AF2D3C652}"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606C0D-A644-4708-BD69-4206DA821843}"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F1946E-A253-462F-9F1A-EC0BCB8665A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2B8B7C-2917-439E-B343-0D00B7C917BC}"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D64A39-AB37-4F9E-803E-C459C0BE12A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90615A-3C69-484E-9F05-CB88D06E27CC}"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489623-2192-4B97-BA85-9ACB6EFD296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D430E0-2F45-42FA-9603-354F7E2D3B62}"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8BEF17-E837-4D9F-AC9E-5F2237625D6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85480D-D97E-4F82-A0D8-BA202647A47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A3424-A149-4D27-8B6B-1B586DE2AA0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9E183-5C39-4E78-B8B2-892CBBB29014}"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04BF9C-038C-4DE9-A95F-B9901E9C52A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5B4B86-A021-4153-913A-E2FF52FE8FC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45605-B1CE-44FA-8548-712123F5E4EF}"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D240A7-EEA6-452F-AA91-1F57BDFFF66A}"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DA9328-912D-4CAA-B0FB-001F4366283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661544-BA22-4A77-8D0F-60079FEC3026}"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8C2F0B-BBA2-4519-AEEC-1372DA5F19D8}"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56C620-BB86-4BA7-9D76-44A06B3E89C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2E58F6-4360-47E4-8F3B-CCA2C55E6548}"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B8077-C23F-4643-A69D-B786F43D118F}"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EBFF45-9A2F-490A-BD1E-D569FD81A820}"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92312-CC1B-457B-B48E-DF74E0213B4B}"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4645D-C3F4-42E7-8631-C451879F1B93}"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B43EC3-4BA6-40D7-9B0F-5C5AF66DC66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3B8C63-0420-4C15-8E34-CC26E6EEDA90}"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D841F3-2CF9-49AB-B958-F2F54F254699}"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6A84D7-54F9-4C5F-8317-EA5CA93DF94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C4D38A-CEED-404F-982D-A7D2289993CF}"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54A2E-494A-46F6-ABA1-12366B045FF5}"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820D0-F2EE-42C5-9589-7D13A9579EE7}"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DCB240-AEF6-43E8-9833-D0C0FEA56B5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92453FD-A3C3-4062-B8CB-EAD51BAE1D7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9F319-08BC-4B0E-BE82-A9377D4264B6}"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3C6806-F3C7-4417-ADD9-AC825DDCA2B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971618-974D-4D5C-9259-93A2F23F6BBB}"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DD7C35-1FB2-4659-AD90-57E95C95FE73}"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774E10-63D6-4CD5-A62E-282085010F4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4B4F5C-B488-4249-AB32-E39744301BEB}"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C804EA-14B9-48FD-ADDC-4F98DABA0F2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4670C6-846D-4947-A641-5F51431A101A}"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6C07AEE-7BBB-491B-864D-97956E319B33}"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5B9AA-84D7-4978-A4F4-C0AA10E9C4BA}"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C58B3F-79B7-440D-8B47-913BB6A0DF9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DEA5C9-85CC-4398-834C-A978641F3542}"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FCE4A9-3272-4C90-B34D-1712BBA96E55}"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E393D3-56C3-471D-BF5B-5F92BCF14774}"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E24548-9F12-4226-95E5-290664550EE8}"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BC2814-3A39-4DCD-AE2F-6D5113E31FBB}"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785EED-2779-488F-B814-E8BCCD02C82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44DEE-20FF-4FBB-B30F-6BB36228583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B8C524-A001-42F7-BCB6-AB47F1744FB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A2203-7F29-4BDD-A79A-FE6AFC1A11FC}"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9B809B-6997-4F2E-8712-A9C3B8EA63BC}"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B69F7C-E106-47F1-B861-2F0491BBC1A6}"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9BA290-EB28-4EE0-BD8C-345EB6B0B826}"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0F2396C-21D9-45BC-9A60-CB5DE9595ABF}"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DAE36-66CE-4153-87D0-4F9E18A2D9E3}"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17938F-E4EB-4729-80BF-ABB0FA3B6F1B}"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57C408-0639-4531-98F8-CA91C7781F3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39B8A5-F773-46D5-827E-216B49C558A6}"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C15026-F20D-469B-AB48-C2369CD73EA1}"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071F7A-54DE-48F6-B55A-A2D521ADD6A8}"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FDBD7F-3BEA-42F2-8BB6-AC79DBB2EA2A}"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661F37-3E2E-4DDE-9AB0-CEB23D7AFC89}"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950FCC-2702-4043-BC3B-478C35927B68}"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276A5E-CBE3-4AF2-9B19-6035251C907B}"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80480E-7F5B-4526-8ED7-A714B20EEB66}"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97401C-DE04-4706-8FBF-66472BDBEA3E}"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855A74-E1EA-4F89-B8F5-F57D1BE37776}"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